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uidance of action both now and in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sign: purposes, execution plan, evaluation meas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ecution: evaluation of implementation, evaluation of design, evaluation of m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llow-up: overall evaluation (including all previous + outcom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280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876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280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876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19936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280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8760" y="148428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280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8760" y="3774600"/>
            <a:ext cx="264348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19936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160" y="377460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484280"/>
            <a:ext cx="40064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74600"/>
            <a:ext cx="82105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39640" y="6308640"/>
            <a:ext cx="3607920" cy="100080"/>
            <a:chOff x="539640" y="6308640"/>
            <a:chExt cx="3607920" cy="100080"/>
          </a:xfrm>
        </p:grpSpPr>
        <p:sp>
          <p:nvSpPr>
            <p:cNvPr id="1" name="Freeform 3"/>
            <p:cNvSpPr/>
            <p:nvPr/>
          </p:nvSpPr>
          <p:spPr>
            <a:xfrm>
              <a:off x="539640" y="6308640"/>
              <a:ext cx="3607920" cy="100080"/>
            </a:xfrm>
            <a:custGeom>
              <a:avLst/>
              <a:gdLst/>
              <a:ahLst/>
              <a:rect l="l" t="t" r="r" b="b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2340000" y="65260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fi.opasnet.org/fi/Tekai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241280" y="3951360"/>
            <a:ext cx="6653520" cy="190440"/>
            <a:chOff x="1241280" y="3951360"/>
            <a:chExt cx="6653520" cy="190440"/>
          </a:xfrm>
        </p:grpSpPr>
        <p:sp>
          <p:nvSpPr>
            <p:cNvPr id="44" name="Freeform 2"/>
            <p:cNvSpPr/>
            <p:nvPr/>
          </p:nvSpPr>
          <p:spPr>
            <a:xfrm>
              <a:off x="4195800" y="3951360"/>
              <a:ext cx="3699000" cy="190440"/>
            </a:xfrm>
            <a:custGeom>
              <a:avLst/>
              <a:gdLst/>
              <a:ahLst/>
              <a:rect l="l" t="t" r="r" b="b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1241280" y="3951360"/>
              <a:ext cx="2813040" cy="190440"/>
            </a:xfrm>
            <a:custGeom>
              <a:avLst/>
              <a:gdLst/>
              <a:ahLst/>
              <a:rect l="l" t="t" r="r" b="b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579560"/>
            <a:ext cx="81993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00000" y="6237360"/>
            <a:ext cx="7488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68360" y="458136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Avoin arviointi ja </a:t>
            </a:r>
            <a:br>
              <a:rPr sz="3400"/>
            </a:br>
            <a:r>
              <a:rPr b="1" lang="fi-FI" sz="3400" spc="-1" strike="noStrike">
                <a:solidFill>
                  <a:srgbClr val="ffffff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332000" y="5877000"/>
            <a:ext cx="6400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Jouni Tuomisto, Mikko Pohj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Arial"/>
              </a:rPr>
              <a:t>THL, Nordem O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en terveysvaikutukset huomioida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arviointi päätösvalmistelun tuke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VA, TVA, SVA, SOVA, YVA,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kokonaisvaltainen lähestymistap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n arviointi  ohjeistaa arviointikäytäntöj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457200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iheena periaatteessa mikä tahan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äätösvalmistelun seuranta ja ohj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on avoin arvioin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7200" y="1484280"/>
            <a:ext cx="821520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otetaan tietyssä päätöksessä tarvittavaa tietoa avoimin työkalu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uka tahansa saa osallistua työskentelyyn (päättäjät, asiantuntijat, sidosryhmä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taa ohjaavat säännöt (keskustelusäännöt, tietorakenteet, syy-seuraussuhteet, …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uloksena tieteelliseen tietoon ja arvoihin perustuvia suosituksia päättäjil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pä päätös –suositu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Esimerkkinä Rauma, Por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Rauman satamavaihtoehdo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719928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156360" y="1484280"/>
            <a:ext cx="2771640" cy="3024360"/>
          </a:xfrm>
          <a:prstGeom prst="rect">
            <a:avLst/>
          </a:prstGeom>
          <a:solidFill>
            <a:srgbClr val="ffffff">
              <a:alpha val="56000"/>
            </a:srgbClr>
          </a:solidFill>
          <a:ln cap="sq"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voitteellisuus: Vastataan siihen kysymykseen, joka on päätökseteon kannalta tärkeää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68360" y="260280"/>
            <a:ext cx="8204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orin kuntapilotti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ais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TM:n rahoittama, THL:n koordinoima projekti 2012-201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Vaikutusarviointien oltava tehokkaita tekaisuja eikä vuosikausien hankkeita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rkoituksena jalkauttaa kuntiin uusia käytäntöj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arvioinn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päätöksentekokäytännöst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068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eljä perusosa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ahdonilm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päättäjän tavoitteet tiedossa ja toiminnan pohj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teut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tiedon keruu ja jäsentäminen päätöksen tue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uranta ja ohj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jatkuva työn peilaaminen ja parantaminen määriteltyjen tavoitteiden suht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495360"/>
                <a:tab algn="l" pos="952560"/>
                <a:tab algn="l" pos="1409760"/>
                <a:tab algn="l" pos="1866960"/>
                <a:tab algn="l" pos="2324160"/>
                <a:tab algn="l" pos="2781360"/>
                <a:tab algn="l" pos="3238560"/>
                <a:tab algn="l" pos="3695760"/>
                <a:tab algn="l" pos="4152960"/>
                <a:tab algn="l" pos="4610160"/>
                <a:tab algn="l" pos="5067360"/>
                <a:tab algn="l" pos="5524560"/>
                <a:tab algn="l" pos="5981760"/>
                <a:tab algn="l" pos="6438960"/>
                <a:tab algn="l" pos="6896160"/>
                <a:tab algn="l" pos="7353360"/>
                <a:tab algn="l" pos="7810560"/>
                <a:tab algn="l" pos="8267760"/>
                <a:tab algn="l" pos="8724960"/>
                <a:tab algn="l" pos="9182160"/>
                <a:tab algn="l" pos="9639360"/>
                <a:tab algn="l" pos="10058400"/>
                <a:tab algn="l" pos="10515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hteenvetämisen taito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tietotaitoa siitä, miten tietoa ja arvoja jäsennetään johdonmukaiseksi kokonaisuude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aisu-menetelmän peruste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70160" y="0"/>
            <a:ext cx="5056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hitetty yhdessä Innokylän kan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äydentää Innokylän lähestymistapa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ajentaa ajattelua sosiaali- ja terveydenhuollon ulkopuol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orostaa vaikutusarviointeja päätösvalmistelu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Sisältää käytäntöjä, ohjeistusta ja kriteereitä vaikutusarviointien evaluointi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atkuvan seurannan ja ohjauksen peria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 Kasteess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oli rakentaa Kaste-hakemus 2013 soveltamaan ja testaamaan avointa päätöksentekokäytäntöä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ati liikaa sitoutumista ja resurssointia kunnil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Nyt kevyempi kunta- ja hankeyhteistyö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voitteena konkreettiset hankkeet, joi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äätöksenteon tukemisen elemen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hankkeen vaikuttavuuden evaluoint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mpäristöterveyden näkökul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Lopp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280880"/>
            <a:ext cx="8218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netelmä tiedon parempaan hyödyntämiseen yhteiskunnallisessa päätöksenteo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kastelee erityisesti tiedontuotantoa päätösten valmisteluvaihee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erustuu kuuteen pääperiaatteeseen, jotka ohjaavat sisällöntuotant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n käytännön tekeminen jakautuu neljään osaan, jotka ovat ajallisesti päällekkäisi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yrkii vastaamaan tavoitteisiin, jotka on asetettu hallitusohjelmassa (ympäristön terveysvaikutukset kaikkeen päätöksentekoon), tutkimuslaitosuudistuksessa (strategisen tutkimuksen kehittäminen) ja avoimen hallinnon hankkee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ttu yhteensopivaksi kokonaisarkkitehtuurin kan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8867B-9CEC-44C6-9B8A-F847D33E6288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veltaminen hankearviointi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68360" y="558972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kko Pohjola, THL / Nordem 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kko Pohjol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T (Ympäristöterveys), Itä-Suomen yliopisto, 201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ssessments are to change the world – Prerequisites for effective environmental health assessm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 (Tuotantotalous), Oulun yliopisto, 200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mprovement of external knowledge transfer of a research compan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rittäjä / konsultti, Nordem Oy, 2012 →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tkija, THL Ympäristöterveyden osasto, 2006-20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voin arviointi, Opasnet (www.opasnet.or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i työtehtäviä teollisuudessa 1999 – 20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rittäjä / konsultti, Nordem Oy, 1999 – 20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monet ulottuvuud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nakkoarviointi, toiminnan ohjaus, jälkiarviointi (evaluoint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”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elkkä jälkiarviointi on vain myöhässä aloitettua (ja siksi puutteellista) arvioint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okonaisvaltainen arviointinäkökul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jallinen jatkumo: ennen, aikana, jälk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i vain prosessia (hanketta), vaan etenkin vaikutuksia ja niiden syit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voin kehityshanke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ahdonilmais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julkiset tavoitteet ja päämäärä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eutu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toiminnan ja sen suunnittelun ja valmistelun periaatte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uranta ja ohjau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kokonaisvaltainen jatkuva arviointi osana hankkeen toteutusta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esta päätöksentekokäytännöstä täydentäviä menetelmiä hankearvioinnin tueksi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→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nkesuunnitelma ja sen toimeenpan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5" name="Oval 2"/>
          <p:cNvSpPr/>
          <p:nvPr/>
        </p:nvSpPr>
        <p:spPr>
          <a:xfrm>
            <a:off x="2843280" y="1917720"/>
            <a:ext cx="2233440" cy="230328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öksente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826920" y="2565360"/>
            <a:ext cx="2305080" cy="1079640"/>
          </a:xfrm>
          <a:prstGeom prst="ellipse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miste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372360" y="2637000"/>
            <a:ext cx="1728720" cy="865080"/>
          </a:xfrm>
          <a:prstGeom prst="octagon">
            <a:avLst>
              <a:gd name="adj" fmla="val 23148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ikutuk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076720" y="2637000"/>
            <a:ext cx="1295640" cy="792000"/>
          </a:xfrm>
          <a:prstGeom prst="rightArrow">
            <a:avLst>
              <a:gd name="adj1" fmla="val 50000"/>
              <a:gd name="adj2" fmla="val 40898"/>
            </a:avLst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teu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826920" y="1341360"/>
            <a:ext cx="5545440" cy="3382920"/>
          </a:xfrm>
          <a:prstGeom prst="ellipse">
            <a:avLst/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340000" y="1484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käytännö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71640" y="5300640"/>
            <a:ext cx="2664000" cy="792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euranta 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hja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 flipV="1">
            <a:off x="2041200" y="3634920"/>
            <a:ext cx="1963800" cy="1675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V="1">
            <a:off x="3995640" y="4211640"/>
            <a:ext cx="1800" cy="1098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 flipV="1">
            <a:off x="3995640" y="3490920"/>
            <a:ext cx="3240360" cy="1819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3995640" y="3203640"/>
            <a:ext cx="1656000" cy="2106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 flipV="1">
            <a:off x="2906640" y="4642920"/>
            <a:ext cx="1098720" cy="667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284720" y="2268360"/>
            <a:ext cx="2592360" cy="144000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yvän hankkeen ominaisuude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pää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edon/suunnitelman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llön laat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arkkuus, harhattomuus, sisäinen yhdenmukais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ovellettav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erkityksellisyys, saatavuus, käytettävyys, hyväksyttävy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ehokk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inen tehokkuus, ulkoinen tehokku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Uusien biodieselin raaka-aineiden vaikutusarviointi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sällön laatu (varsin) hyv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hokkuus hyv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elpo tulokset pienin resurss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ulokset helposti hyödynnettäviss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vellettavuudessa kuitenkin puuttei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laaja/käyttäjä (Neste Oil) ei julkistanut tarpeitaan selvästi eikä osallistunut työhön aktiivisesti (-&gt; heikko merkityksellisyys ja käytettävyy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Kattavuu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apu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aikutuk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uomioidut, oleelliset, tärkeimmät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yyt (vaikuttime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uomioidut, oleelliset, tärkeimmä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sianosai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lukkaat, mahdolliset, vastuullise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oimij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et, hyötyjät, tarvitsija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erilaiset vaikutusarviointi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immat vakiintuneet vaikutusarvioinnin menetelmät rajattuja joko tarkasteltavien vaikutusten ja niiden syiden sekä huomioon ja mukaan otettavien toimijoiden suhte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YVA, TVA, RA, 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nalta asetetut rajoitteet harvoin yhdenmukaisia tiedon tarpeen kanssa ja siten usein heikentävät tuotetun tiedon käyttökelpoisuut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voimuu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apumenetelmä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avoim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etkä saavat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edon avoim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ssä määrin tietoa on saatavilla?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ajoit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lloin voi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kattavu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hin toimintoihin voi osallistu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sallistumisen vaikutus -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issä määrin osallistujat voivat vaikutta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eriaatte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3080" y="1268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avoitteellisu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päätöksentekijän asettamat tavoitteet ja toimintavaihtoehdot ja niiden tietotarpeet ohjaavat tietotyö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ohteellisu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Tieto kerätään ja jaetaan yhdessä paikassa, jossa myös työskennellään ja keskustellaan sisällö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yysuhteiden kuva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Tarkastelun kohteena ovat ne syysuhteet, joiden kautta päätökset muuttavat tavoiteltuja asio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ritiikk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aikkea saa kritisoida. Kritiikin sisällyttämisestä on omat ohje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voimuus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Lähtökohtaisesti kaikki saavat osallist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usiokäyttö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: Kaikki työ tehdään niin, että tieto on mahdollisimman helposti käytettävissä uusissa tilante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329F1-351F-4228-8267-D25A1DE19CB4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Puijon metsienhoito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usta alkaen avoin prosessi, useita sidosryhmätilaisuuksia ja työpajoj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uitenkin lopulta monet tyytymättömiä lopputulokseen, miksi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ikka kuultiin, erilaisia näkemyksiä ei osattu sisällyttää loppuraporttiin (→ heikko osallistumisen vaikuttavuus ja kattavu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urauksena paljon kiistelyä kaupunginvaltuuston päätöksiin ja suunnitelman toimeenpanoon liitty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Seurannan ja ohjauksen menetelmä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yväksyttävy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huomioitu olennaiset tiedot asiast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huomioitu olennaiset arvoarvostelma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tavoitteet kuvattu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Onko päättely tavoitteista suunnitelmaan/toimeenpanoon kuvattu?</a:t>
            </a:r>
            <a:br>
              <a:rPr sz="2600"/>
            </a:b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oivatko kaikki asianosaiset/toimijat vastata kaikkiin edellisiin kysymyksiin kyllä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: Puijon metsienhoitosuunnitelm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ajasta osallistumisesta huolimatta etenkin ympäristöjärjestöt kritisoivat luonnonsuojelullisten näkökulmien vähäisestä painoarvos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staavasti prosessista vastaavat moittivat kriittisten lausuntojen antajia irtiotosta, vaikka olivat saaneet olleet mukana osallistumas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lvästikään kaikkea tietoa ja eri näkökulmia ei oltu huomioitu lopputuloksessa riittäväst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Myöskään eri toimijoiden tavoitteet ja niiden yhteydet lopputulokseen eivät olleet läpinäkyvästi tiedossa ja esillä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ustelu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öytyisikö esimerkkejä teidän hankkeistanne tai muusta toimintaympäristöstä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nkesuunnitelman/-toteutuks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isältö, sovellettavuus, tehokk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Kattav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Avoimu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345960"/>
                <a:tab algn="l" pos="803160"/>
                <a:tab algn="l" pos="1260360"/>
                <a:tab algn="l" pos="1717560"/>
                <a:tab algn="l" pos="2174760"/>
                <a:tab algn="l" pos="2631960"/>
                <a:tab algn="l" pos="3089160"/>
                <a:tab algn="l" pos="3546360"/>
                <a:tab algn="l" pos="4003560"/>
                <a:tab algn="l" pos="4460760"/>
                <a:tab algn="l" pos="4917960"/>
                <a:tab algn="l" pos="5375160"/>
                <a:tab algn="l" pos="5832360"/>
                <a:tab algn="l" pos="6289560"/>
                <a:tab algn="l" pos="6746760"/>
                <a:tab algn="l" pos="7203960"/>
                <a:tab algn="l" pos="7661160"/>
                <a:tab algn="l" pos="8118360"/>
                <a:tab algn="l" pos="8575560"/>
                <a:tab algn="l" pos="9032760"/>
                <a:tab algn="l" pos="94899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yväksyttävyy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5720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68360" y="260280"/>
            <a:ext cx="82026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ito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yön tekemiseen os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ahdonilmaisu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Päättäjä jäsentää ja lausuu julki päätökselle asetettavat tavoitteet ja reunaehdot. Tämä työ painottuu alkuvaihee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Toteutus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Päätöstuen tavoitteena on tuottaa vaikutusarviointi, joka ennakoi eri päätösvaihtoehtojen vaikutuks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Seuranta ja ohjaus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Työtä seurataan ja ohjataan jatkuvasti peilaamalla sitä asetettuihin tavoitteisiin ja tulossa oleviin päätöksenteon vaihei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Yhteenvetämisen taito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: Työn tekeminen vaatii uusia taitoja, jotka eivät sisälly päättäjän, asiantuntijan eikä lobbarinkaan ammattitaitoon. Tämä uusikin työ on organisoita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3743B-A075-4E88-81BB-0FF84E5EAC32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61722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päätöksen-</a:t>
            </a:r>
            <a:br>
              <a:rPr sz="3400"/>
            </a:b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ekokäytän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840" y="1484280"/>
            <a:ext cx="8210520" cy="43848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4"/>
          <p:cNvSpPr/>
          <p:nvPr/>
        </p:nvSpPr>
        <p:spPr>
          <a:xfrm>
            <a:off x="8575560" y="6586560"/>
            <a:ext cx="5335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30521-7390-40BD-96EB-CE32BC9FAB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155520" y="-1859040"/>
            <a:ext cx="285768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07800" y="-1706400"/>
            <a:ext cx="285768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286000" y="-3240"/>
            <a:ext cx="50767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austa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mpäristö vaikuttaa terveyte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lmansaasteet, pienhiukk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osteusvauriot, hometa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elu ja he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ysyvät orgaaniset ympäristömyrkyt ja metal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ytkennät kokonaisarkkitehtuurii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268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ta: Ohjeita tietotyön käytännön tekemiseen. Sovellettavissa muuhunkin tietotyöhön kuin välittömään päätöstukeen, esim. tutkimus- ja asiantuntijalaitosten toimintaan yleise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: Tiedon sovellettavuus ja jäsentäminen on avoimen päätöksentekokäytännön perusta ja lähtökoh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järjestelmät: Kuvatun kaltaisen työn tekemiseen on rakennettu yleiskäyttöiset tietojärjestelmä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pasnet: arviointitiedon kerääminen ja jäsen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nokylä: hyvien käytäntöjen kehittäminen, arviointi ja juurruttami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toteknologiat: Avoimen koodin järjestelmät ovat jo käytössä ja valmiina laajempaan käyttöö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8CA35-ED9C-40A6-99E3-E310DA99FDBA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99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mpäristöterveydenhuollon kokonaisarkkitehtuur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484280"/>
            <a:ext cx="82105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okonaisarkkitehtuurissa on kaksi pääosa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I: ympäristöterveydenhuollon valtakunnallinen tietojärjestelm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käyttöö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vonta- ym. tietojen kerääminen kunn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uuhenkilö: Jyrki Huikari, 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Avoin päätöksentekokäytäntö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nteon tietotuki kunnissa ja yhteiskunnassa yleen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uuhenkilö: Jouni Tuomisto, T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51D8F-6B28-4764-9CB9-2E7E93E2A4D7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68360" y="260280"/>
            <a:ext cx="8204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Ympäristöterveys on osa (kunnallista) päätöksenteko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484280"/>
            <a:ext cx="82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avoitus ja sen vaikutukset mm. liikentees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mpäristön viihtyisyys ja sen vaikutus hyvinvointi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VA, ympäristöluvitus (Talvivaar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akennusluv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äätöksentekijöinä mm. kunnat, AVIt, ely-keskuk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3:09:53Z</dcterms:created>
  <dc:creator>ktluser</dc:creator>
  <dc:description/>
  <dc:language>en-US</dc:language>
  <cp:lastModifiedBy>Tuomisto Jouni</cp:lastModifiedBy>
  <dcterms:modified xsi:type="dcterms:W3CDTF">2013-11-07T12:54:38Z</dcterms:modified>
  <cp:revision>30</cp:revision>
  <dc:subject/>
  <dc:title>Tekaisu-hankkeen yleisesittely</dc:title>
</cp:coreProperties>
</file>